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47F-1E70-4B8A-A6E3-9D9DBFA1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82D-0EAC-41DB-B168-BE38AFA6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3F4-8E57-4C0E-88FC-CC5D0C57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DBB-27BF-462E-A9FB-81BAD3F4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613-2947-48AC-941F-991DAFD6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E2A-760D-494B-8EBF-C3162E1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290-C302-48A0-B9CA-7B63D6F4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CB9-9D55-458A-9D8B-5D72A225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C3A-9C7B-4022-BCF1-A648B453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5F9-3EF5-4426-B570-9786638B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9AB-BE29-47D6-9545-43F73A5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B9D-8C5D-4EE3-8B4D-CC473917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707F-1DE1-430C-BB65-2EEE523DD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0556" t="28447" r="22223" b="15555"/>
          <a:stretch/>
        </p:blipFill>
        <p:spPr>
          <a:xfrm>
            <a:off x="762120" y="1066680"/>
            <a:ext cx="7848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6:59:28Z</dcterms:created>
  <dc:creator>laba07</dc:creator>
  <dc:description/>
  <dc:language>en-US</dc:language>
  <cp:lastModifiedBy>laba07</cp:lastModifiedBy>
  <dcterms:modified xsi:type="dcterms:W3CDTF">2010-10-21T17:02:33Z</dcterms:modified>
  <cp:revision>1</cp:revision>
  <dc:subject/>
  <dc:title>Slide 1</dc:title>
</cp:coreProperties>
</file>